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5th%20Grader%20Short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2691-9845-4CA1-8A99-E8E27DB2A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B3B-BAAF-4AEB-AD41-E871A516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6438-C495-4B15-8BC7-0421620DA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EE68-8F76-4D2B-B6B7-EAA77FD3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54E08-C0CF-4C8B-905A-AE396A400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879B-1651-4FEA-97F8-3A94859E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46E9-6698-4446-8A16-75B2F1D3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5F09-C0A3-49CD-A8B0-52DEF06D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638F-BC41-47F6-9B0C-F43B7D04F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A10F-852A-4A21-9176-A875A127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E2FA-4B40-491D-A4E6-5C21453B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AA4-FD9B-4CD4-AB10-702189DF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397B-B8BE-4DE0-8644-B9206CDB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B3EBF-0FC4-4D65-A651-C6AEE9F5D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F6ACC-D3E8-4C4F-9DA6-C1BEB7B3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DE09-EACD-4EAE-BC64-C50B2D580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9012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7760" y="312408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9012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7760" y="4358160"/>
            <a:ext cx="250236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8DA2E-3913-4C32-AD90-7AC1ADF0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6D0F-9B88-4F60-A807-A105A674B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141D-47E7-4F1C-99FD-96B104B2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FD98-A6E7-4D6B-9850-8D1E7E88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1752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8A9-07AB-44E4-BF77-A23A892A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148-ABFA-4BAE-A71C-1D61C059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435816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06A0-4AF1-45FF-8C23-A1C6A542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3124080"/>
            <a:ext cx="37926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358160"/>
            <a:ext cx="7772400" cy="11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0DFA-0DA9-4656-9D39-0FC0154F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66000"/>
          </a:bodyPr>
          <a:p>
            <a:pPr marL="226080" indent="-226080">
              <a:buClr>
                <a:srgbClr val="ffff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490320" indent="-188640">
              <a:buClr>
                <a:srgbClr val="ff66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754200" indent="-150840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055880" indent="-150840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1357560" indent="-150840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1357560" indent="-150840"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03383-A57E-4B2D-894C-A9F66BFB716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7720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7F10-EEFE-4745-8745-683D97AD35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1" marL="45720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lvl="2" marL="914400" algn="ctr">
              <a:buClr>
                <a:srgbClr val="66ccff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371600" algn="ctr">
              <a:buClr>
                <a:srgbClr val="80ff00"/>
              </a:buClr>
              <a:buSzPct val="75000"/>
              <a:buFont typeface="Monotype Sorts" charset="2"/>
              <a:buChar char="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828800" algn="ctr">
              <a:buClr>
                <a:srgbClr val="ffcc66"/>
              </a:buClr>
              <a:buSzPct val="75000"/>
              <a:buFont typeface="Monotype Sorts" charset="2"/>
              <a:buChar char="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Monotype Sor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3.xml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slide" Target="slide19.xml"/><Relationship Id="rId12" Type="http://schemas.openxmlformats.org/officeDocument/2006/relationships/slide" Target="slide21.xml"/><Relationship Id="rId13" Type="http://schemas.openxmlformats.org/officeDocument/2006/relationships/slide" Target="slide2.xml"/><Relationship Id="rId14" Type="http://schemas.openxmlformats.org/officeDocument/2006/relationships/slide" Target="slide2.xml"/><Relationship Id="rId15" Type="http://schemas.openxmlformats.org/officeDocument/2006/relationships/slide" Target="slide2.xml"/><Relationship Id="rId16" Type="http://schemas.openxmlformats.org/officeDocument/2006/relationships/slide" Target="slide2.xml"/><Relationship Id="rId17" Type="http://schemas.openxmlformats.org/officeDocument/2006/relationships/slide" Target="slide2.xml"/><Relationship Id="rId18" Type="http://schemas.openxmlformats.org/officeDocument/2006/relationships/slide" Target="slide2.xml"/><Relationship Id="rId19" Type="http://schemas.openxmlformats.org/officeDocument/2006/relationships/slide" Target="slide2.xml"/><Relationship Id="rId20" Type="http://schemas.openxmlformats.org/officeDocument/2006/relationships/slide" Target="slide2.xml"/><Relationship Id="rId21" Type="http://schemas.openxmlformats.org/officeDocument/2006/relationships/slide" Target="slide2.xml"/><Relationship Id="rId22" Type="http://schemas.openxmlformats.org/officeDocument/2006/relationships/slide" Target="slide2.xml"/><Relationship Id="rId23" Type="http://schemas.openxmlformats.org/officeDocument/2006/relationships/slide" Target="slide2.xml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5th%20Grader%20Short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Are You Smarter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 a 5</a:t>
            </a:r>
            <a:r>
              <a:rPr b="0" lang="en-US" sz="4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5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3rd Grade Topic 6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7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2nd Grade Topic 8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0500"/>
            </a:gs>
            <a:gs pos="50000">
              <a:srgbClr val="408000"/>
            </a:gs>
            <a:gs pos="100000">
              <a:srgbClr val="0205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228240"/>
            <a:ext cx="6858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re You Smarter Than a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Grader?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28600"/>
            <a:ext cx="1600200" cy="457200"/>
          </a:xfrm>
          <a:prstGeom prst="rect">
            <a:avLst/>
          </a:prstGeom>
          <a:solidFill>
            <a:srgbClr val="000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" action="ppaction://hlinksldjump"/>
              </a:rPr>
              <a:t>1,0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676520" y="16765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5th Grade Topic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16765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3" action="ppaction://hlinksldjump"/>
              </a:rPr>
              <a:t>5th Grade Topic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676520" y="264780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4th Grade Topic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64780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ff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5" action="ppaction://hlinksldjump"/>
              </a:rPr>
              <a:t>4th Grade Topic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76520" y="3619440"/>
            <a:ext cx="358128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3rd Grade Topic 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10080" y="3619440"/>
            <a:ext cx="3581640" cy="60984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7" action="ppaction://hlinksldjump"/>
              </a:rPr>
              <a:t>3rd Grade Topic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59108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9" action="ppaction://hlinksldjump"/>
              </a:rPr>
              <a:t>2nd Grade Topic 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459108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2nd Grade Topic 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76520" y="5562720"/>
            <a:ext cx="358128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1" action="ppaction://hlinksldjump"/>
              </a:rPr>
              <a:t>1st Grade Topic 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410080" y="5562720"/>
            <a:ext cx="3581640" cy="609480"/>
          </a:xfrm>
          <a:prstGeom prst="flowChartTerminator">
            <a:avLst/>
          </a:prstGeom>
          <a:solidFill>
            <a:srgbClr val="004080"/>
          </a:solidFill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1st Grade Topic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240" y="80028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3" action="ppaction://hlinksldjump"/>
              </a:rPr>
              <a:t>5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13874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3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197316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5" action="ppaction://hlinksldjump"/>
              </a:rPr>
              <a:t>17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280" y="25606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10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2280" y="314784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7" action="ppaction://hlinksldjump"/>
              </a:rPr>
              <a:t>5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373392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2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2280" y="432108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19" action="ppaction://hlinksldjump"/>
              </a:rPr>
              <a:t>10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280" y="490680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5494320"/>
            <a:ext cx="1371600" cy="471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1" action="ppaction://hlinksldjump"/>
              </a:rPr>
              <a:t>2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>
            <a:hlinkClick r:id="rId22" action="ppaction://hlinksldjump"/>
          </p:cNvPr>
          <p:cNvSpPr/>
          <p:nvPr/>
        </p:nvSpPr>
        <p:spPr>
          <a:xfrm>
            <a:off x="152280" y="6081840"/>
            <a:ext cx="1371600" cy="47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4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hlinkClick r:id="rId23" action="ppaction://hlinksldjump"/>
              </a:rPr>
              <a:t>1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9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st Grade Topic 1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Million Dollar Questio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Grade Level Topic 11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77724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1,000,000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Thanks for Playing!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3733920"/>
            <a:ext cx="3048120" cy="1904760"/>
          </a:xfrm>
          <a:prstGeom prst="rect">
            <a:avLst/>
          </a:prstGeom>
          <a:solidFill>
            <a:srgbClr val="ffffff"/>
          </a:solidFill>
          <a:ln w="1522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1905120" cy="147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1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Question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5th Grade Topic 2 Answer 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3 Answer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48720" y="5257800"/>
            <a:ext cx="1218960" cy="685800"/>
          </a:xfrm>
          <a:custGeom>
            <a:avLst/>
            <a:gdLst>
              <a:gd name="textAreaLeft" fmla="*/ 98280 w 1218960"/>
              <a:gd name="textAreaRight" fmla="*/ 1120680 w 1218960"/>
              <a:gd name="textAreaTop" fmla="*/ 98280 h 685800"/>
              <a:gd name="textAreaBottom" fmla="*/ 587520 h 685800"/>
            </a:gdLst>
            <a:ahLst/>
            <a:rect l="textAreaLeft" t="textAreaTop" r="textAreaRight" b="textAreaBottom"/>
            <a:pathLst>
              <a:path w="38384" h="21600">
                <a:moveTo>
                  <a:pt x="0" y="0"/>
                </a:moveTo>
                <a:lnTo>
                  <a:pt x="38384" y="0"/>
                </a:lnTo>
                <a:lnTo>
                  <a:pt x="38384" y="21600"/>
                </a:lnTo>
                <a:lnTo>
                  <a:pt x="0" y="21600"/>
                </a:lnTo>
                <a:close/>
              </a:path>
              <a:path fill="lightenLess" w="38384" h="21600">
                <a:moveTo>
                  <a:pt x="0" y="0"/>
                </a:moveTo>
                <a:lnTo>
                  <a:pt x="38384" y="0"/>
                </a:lnTo>
                <a:lnTo>
                  <a:pt x="35284" y="3100"/>
                </a:lnTo>
                <a:lnTo>
                  <a:pt x="3100" y="3100"/>
                </a:lnTo>
                <a:close/>
              </a:path>
              <a:path fill="darken" w="38384" h="21600">
                <a:moveTo>
                  <a:pt x="38384" y="0"/>
                </a:moveTo>
                <a:lnTo>
                  <a:pt x="38384" y="21600"/>
                </a:lnTo>
                <a:lnTo>
                  <a:pt x="35284" y="18500"/>
                </a:lnTo>
                <a:lnTo>
                  <a:pt x="35284" y="3100"/>
                </a:lnTo>
                <a:close/>
              </a:path>
              <a:path fill="darkenLess" w="38384" h="21600">
                <a:moveTo>
                  <a:pt x="38384" y="21600"/>
                </a:moveTo>
                <a:lnTo>
                  <a:pt x="0" y="21600"/>
                </a:lnTo>
                <a:lnTo>
                  <a:pt x="3100" y="18500"/>
                </a:lnTo>
                <a:lnTo>
                  <a:pt x="35284" y="18500"/>
                </a:lnTo>
                <a:close/>
              </a:path>
              <a:path fill="lighten" w="38384" h="21600">
                <a:moveTo>
                  <a:pt x="0" y="21600"/>
                </a:moveTo>
                <a:lnTo>
                  <a:pt x="0" y="0"/>
                </a:lnTo>
                <a:lnTo>
                  <a:pt x="3100" y="3100"/>
                </a:lnTo>
                <a:lnTo>
                  <a:pt x="3100" y="18500"/>
                </a:lnTo>
                <a:close/>
              </a:path>
            </a:pathLst>
          </a:custGeom>
          <a:solidFill>
            <a:srgbClr val="c0c0c0"/>
          </a:solidFill>
          <a:ln w="255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4th Grade Topic 4 Question</a:t>
            </a:r>
            <a:endParaRPr b="0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50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0T20:28:24Z</dcterms:created>
  <dc:creator>Gary Bodenschatz</dc:creator>
  <dc:description/>
  <dc:language>en-US</dc:language>
  <cp:lastModifiedBy>Connie Campbell</cp:lastModifiedBy>
  <dcterms:modified xsi:type="dcterms:W3CDTF">2008-02-14T14:42:38Z</dcterms:modified>
  <cp:revision>21</cp:revision>
  <dc:subject/>
  <dc:title>Are You Smarter  Than a 5th Grader?</dc:title>
</cp:coreProperties>
</file>